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81D2-8E94-4233-A62B-FFE970A4C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BE72-7EE0-483C-AE13-F2BEC4AA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DB10-2266-48C6-AFD2-495C22433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91F6-DCF3-4D7B-8D0B-DEE5C55F5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750E-47B0-44B9-A688-6D1CC9CC5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C8AC-EAF3-4D3D-A4B9-12B959EA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AE6D-2989-49C2-BCF3-05D6B2E3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288DF-0552-449A-9669-20FC3BE8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3563-55B5-4157-BB5C-2EF506B6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AE0B-D2CE-4DA2-BB01-CC818CDA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9BB3-275E-423D-AD90-D30F372A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A182-EEBD-40C2-B8DB-F9FC52B1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91ED-248B-4909-BB84-9DFBC7DB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E6A4-3ACC-4B39-8194-7A11A704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DC903-6BF3-4566-8F0A-5DC2208E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CF74-113B-4BFE-A722-45B3F8FCC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8CB4-7675-4221-9D05-78B6E7DD8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1B5D-8C26-4A6C-A92C-D9FECD64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A6F7-7E98-41D7-B587-C30CB3E0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E5BF-1FBA-4592-8FFA-4AC755A3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CCCC-353D-4C33-B620-0AD9A26B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8CF8-8D8B-4098-8D01-7B6381E0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B509-7135-4295-A5D2-CA55A905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62A0-F732-4298-93FD-58ABB05A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EFE6-EE93-42A8-BBF5-6FCE829741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EFE9-8018-460A-B9CB-D58658D6BE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rm-Up Sent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China, brides traditionally where bright red, putting on crimson appar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the middle ages in England beer were often served with breakf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Journal #23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ould your life be like if your were 6 inches tal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rm-Up Sent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lam, a major world religion, is dominent in the middle east, it’s followers are called muslims, and it’s sacred book in the kor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Grandfather a world War II veteran heard president Truman anounce that the United States had dropped the first atomic bomb on hiroshima Japan, three day later, a second a-bomb was dropped on nagasak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Journal #24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the letters of the alphabet vertically on your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a 26 sentence journal entry about whatever you would like; as long as each sentence starts with the corresponding letter of the alphab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Friday Warm-up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534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ive voi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ccurs when the subject performs the action.  In th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ssive voi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he subject of the sentence is acted on by another agents.  Look at the following exampl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ssive Voi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nuffles was taken to the vet by my m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ive Voi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My mom took Snuffles to the v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iminate the passive voice from your writing as much as possible.  In the beginning, it will seem impossible, but after a while it will get easier, and you’ll notice that your writing has become far more interes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52280" y="4267080"/>
            <a:ext cx="8763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write the following sentences, changing the passive voice to the active voi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. The exam was administered by the teach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Georgia’s outfit was chosen by the saleswom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The city was invaded by barbaria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54:30Z</dcterms:created>
  <dc:creator>tpagel</dc:creator>
  <dc:description/>
  <dc:language>en-US</dc:language>
  <cp:lastModifiedBy>tpagel</cp:lastModifiedBy>
  <dcterms:modified xsi:type="dcterms:W3CDTF">2010-06-03T16:55:30Z</dcterms:modified>
  <cp:revision>1</cp:revision>
  <dc:subject/>
  <dc:title>Warm-Up Sentences</dc:title>
</cp:coreProperties>
</file>